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CA5D-3FCB-4B6E-ABBA-8553945A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354-F1AF-4CC9-8B35-D2D5F6C4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792-860E-4648-A542-26AEBC6B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18D-A81D-4307-8A21-FE84ADE2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967-24BC-479A-86E5-ABA59C96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F8C-2AD1-4514-BC02-127E1664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8C7-4581-4802-9810-6F007D08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035-63B9-4430-8ACB-0CC7DBF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FD1-19C7-4FC5-8A52-5857867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CF9-FD51-442E-B970-D76A94A6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948-743B-4824-A487-E647342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04F-9655-4D97-893B-C892FA7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EFF-CFB3-4489-A5B7-3ECA3B17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6C4-ABFA-4EC5-9345-E485CAA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C9C2-E528-4364-BCA9-8444ACF2F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ater.usgs.gov/pubs/circ/circ1156/circ1156.4D.fig1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spitalmanagement.net/contractor_images/sempermed/1.jpg&amp;imgrefurl=http://www.hospitalmanagement.net/contractors/disposables/sempermed/sempermed1.html&amp;usg=__-v6jYMNx4msVsHOpJ9SMlbsQBCE=&amp;h=386&amp;w=580&amp;sz=44&amp;hl=en&amp;start=14&amp;um=1&amp;tbnid=GYzoyBPG2B47nM:&amp;tbnh=89&amp;tbnw=134&amp;prev=/images%3Fq%3Dsurgical%2Bgloves%26um%3D1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assembly.state.ny.us/comm/Toxic/20010531/4551p5.jpg&amp;imgrefurl=http://assembly.state.ny.us/comm/Toxic/20010531/&amp;usg=__yYAYtgeQy41W3-TeQaMscJMeZb4=&amp;h=274&amp;w=200&amp;sz=11&amp;hl=en&amp;start=9&amp;um=1&amp;tbnid=heo_j8rbmhfrqM:&amp;tbnh=113&amp;tbnw=82&amp;prev=/images%3Fq%3Div%2Bbags%26um%3D1%26hl%3Den%26safe%3Dactive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avery.com/us/downloads/clipart/baby_pacifier.gif&amp;imgrefurl=http://17yearoldparent.blogspot.com/&amp;usg=__tw7oQ7fCtFlY96gTm_doj-J6XjQ=&amp;h=541&amp;w=382&amp;sz=8&amp;hl=en&amp;start=1&amp;um=1&amp;tbnid=H2e696m99kz7YM:&amp;tbnh=132&amp;tbnw=93&amp;prev=/images%3Fq%3Dpacifiers%26um%3D1%26hl%3Den%26safe%3Dactive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ida.liu.se/~TDDB84/pictures/rubberDuck.jpg&amp;imgrefurl=http://www.xanga.com/mik_314/597264707/item/&amp;usg=__W__jNHwPKiobIR021_s0Fy8KB8c=&amp;h=1024&amp;w=1024&amp;sz=305&amp;hl=en&amp;start=34&amp;um=1&amp;tbnid=mBJQ46Ekp4_PWM:&amp;tbnh=150&amp;tbnw=150&amp;prev=/images%3Fq%3Drubber%2Bduckie%26start%3D20%26ndsp%3D20%26um%3D1%26hl%3Den%26safe%3Dactive%26sa%3DN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100-2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Health and Toxi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ants are often measur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Health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on dose, duration an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ganic compou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industry, pesticides, food additives, medici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irc11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51460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ox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ly indestruct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1066680" y="167652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7238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004840" y="1420920"/>
            <a:ext cx="525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oxic manmade che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Effects of Diox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Am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inimize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t 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the U.S. Govn’t to clear foliage in Vietnam during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alt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sphenol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 disruptor (see D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CB’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Polychlorinated Bipheny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-cycle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3434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, fish oils, milk, eggs, fats and oils, infant formula, huma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1120" y="837720"/>
            <a:ext cx="44956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alth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nd va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nd va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tha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iz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511520"/>
            <a:ext cx="3533760" cy="234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4551p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819520"/>
            <a:ext cx="1993680" cy="274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baby_pacifi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343400"/>
            <a:ext cx="161136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rubberDuc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8195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serious environmental health hazards U.S. children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s in body over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soft tissue, bones and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ored, is released very slowly through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O and PF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chem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lots of th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ee full size image"/>
          <p:cNvPicPr/>
          <p:nvPr/>
        </p:nvPicPr>
        <p:blipFill>
          <a:blip r:embed="rId1"/>
          <a:stretch/>
        </p:blipFill>
        <p:spPr>
          <a:xfrm>
            <a:off x="6172200" y="2590920"/>
            <a:ext cx="2362320" cy="188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Water-inlet-with-cap--with-spray-nozzel-Spray-burst-of-steam-Irons-20483499607"/>
          <p:cNvPicPr/>
          <p:nvPr/>
        </p:nvPicPr>
        <p:blipFill>
          <a:blip r:embed="rId2"/>
          <a:stretch/>
        </p:blipFill>
        <p:spPr>
          <a:xfrm>
            <a:off x="6248520" y="4876920"/>
            <a:ext cx="18954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autionary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emical is likely to cause harm, it must be proven inno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the health of humans and the environment is at stake, it may not be necessary to wait for scientific certainty to take protective action.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se an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amounts something may be harmless, or even necessary, in larger amounts it’s a differen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differ in how they respond to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15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F15_12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e Response Cur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to be able to predict how a % of the population will respond to a given do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s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tox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D 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people or organis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e (leth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F15_13"/>
          <p:cNvPicPr/>
          <p:nvPr/>
        </p:nvPicPr>
        <p:blipFill>
          <a:blip r:embed="rId1"/>
          <a:stretch/>
        </p:blipFill>
        <p:spPr>
          <a:xfrm>
            <a:off x="0" y="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609480" y="5562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38080" y="530532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D –  50 (effective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D –  50 (toxic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D –  50  (lethal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shold Dos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sh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evel below this has no effect and level above this show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a threshold: below a certain amount is totally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: there is no safe amount, even very small doses have a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F15_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logical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rgs vary in their tolerance or sensitivity to env. 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sponse curves for different species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withstand stress due to a pollutant or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pulations can develop it, others 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last 100 years it was added to paint, gas, water pipes, health care supplies…  (330 million tons mi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ourc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withstand stress due to a pollutant or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pulations can devel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eavy metal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Can biomagn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Global emissions of metals to the atmosphere, 1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0"/>
            <a:ext cx="861048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762120" y="5791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ange of heavy metals emitted into atmospher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 = anthropogenic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The relative importance of anthropogenic sources of metals world-wid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4502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2209680" y="518148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thropogenic sources of heavy metal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295280" y="1905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al, oil,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0" y="23623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rning w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95480" y="15238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-product of mining zinc, nickle,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Time trends for estimated deposition of lead and cadmium as determined in Greenland ice cor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609480"/>
            <a:ext cx="7086600" cy="404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066680" y="49528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ad and cadmium found in ice core samples in Gre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d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metal industry, strengthe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o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hazard for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foods:  kidneys, liver, mussels, oy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utes of Mercury Into the Body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181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13716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 way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15_6"/>
          <p:cNvPicPr/>
          <p:nvPr/>
        </p:nvPicPr>
        <p:blipFill>
          <a:blip r:embed="rId1"/>
          <a:stretch/>
        </p:blipFill>
        <p:spPr>
          <a:xfrm>
            <a:off x="609480" y="5335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6019920" y="4724280"/>
            <a:ext cx="1676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 flipH="1" flipV="1">
            <a:off x="7010280" y="411480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867280" y="2743200"/>
            <a:ext cx="11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5029200" y="2819520"/>
            <a:ext cx="8380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715000" y="1219320"/>
            <a:ext cx="2514600" cy="368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thyl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2:00:51Z</dcterms:created>
  <dc:creator>tosborne</dc:creator>
  <dc:description/>
  <dc:language>en-US</dc:language>
  <cp:lastModifiedBy>infosys</cp:lastModifiedBy>
  <cp:lastPrinted>2014-02-05T17:27:29Z</cp:lastPrinted>
  <dcterms:modified xsi:type="dcterms:W3CDTF">2016-02-05T19:53:43Z</dcterms:modified>
  <cp:revision>44</cp:revision>
  <dc:subject/>
  <dc:title>Environmental Health and Toxicology</dc:title>
</cp:coreProperties>
</file>